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0.png" ContentType="image/png"/>
  <Override PartName="/ppt/media/image5.png" ContentType="image/png"/>
  <Override PartName="/ppt/media/image2.gif" ContentType="image/gif"/>
  <Override PartName="/ppt/media/image6.png" ContentType="image/png"/>
  <Override PartName="/ppt/media/image11.png" ContentType="image/png"/>
  <Override PartName="/ppt/media/image3.jpeg" ContentType="image/jpeg"/>
  <Override PartName="/ppt/media/image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57B63-219E-4274-A697-C614A84D99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55EF1-D23C-4ADE-B790-93386ABA4F7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om English Teacher to Learning Coach: Learner Autonomy and Empower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y do we need millions of educators to rewrite or create material, curriculum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y do we need this In the age of you tube and MIT open coursew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great stuff is already out there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re’s Digital oxford university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e need that efficiency in the education syste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04A55-74AD-4FA2-AE4C-10619ECC471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echnical: how to construct sentences; grammar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actical; how to write a paragraph for an emai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ultural: who is the audience; cultural implications and cont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ritical: what the message is; clarity of thought; cohesiveness;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eacher as a personal learning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hallenging the belief system of teachers and creating a culture of reflective work will, in MuHammads’s (2009) view, help schools develop as a place where all students have the ability to succeed.  This cultural change will surely allow for a learning environment described by the notion of a personal learning manager.  Of course,  we then have to take a long look at what or where a “school” is and position that place or that space for this new teaching ro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3DBB57-F493-4139-BF24-6377924E0AB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s need to develop the skills needed for the 21</a:t>
            </a:r>
            <a:r>
              <a:rPr b="0" lang="en-CA" sz="12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 century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Give the example of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 live in cana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’m living in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xplain the context and the wh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8A30-6A61-4099-ADFE-5F4BABCB853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ack Uldrich-global futurist and Chief unlearning offic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that people cannot understand the future but unwillingness to let go of present-e.g. “LINC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ne of the most critical skills of the future is not “lifelong learning” but unlear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o attain knowledge, add things everyday  by chinese philosopher“lao tsu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o attain wisdom, subtract things everyd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efinition of unlearning; To see the world not as you see it but as others d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.g. E and backward “E” how “E” is seen by others i.e. back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so much what we know but what we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s humans, we’re pattern seeking animals even when patterns don’t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ack says that If you want to unlearn, create a list of anti library ie. Books that you never read but should re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ADC16-9722-429D-A23C-657D7365467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Definition of unlearning; To see the world not as you see it but as others do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.g. E and backward “E” how “E” is seen by others i.e. back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what YOU should teach but what your LEARNERS want to learn-go back to needs assessment example: assessment from whose perspectiv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Not so much what we know but what we don’t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s humans, we’re pattern seeking animals even when patterns don’t exis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364A2-56EF-476F-A2D1-9079726E073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is what you have learned-i.e. What you kn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is the content we create and contr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4BBEB-3AB8-4F1B-908C-05EDBA97E7A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eaching is still relevant; the question is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does teaching mea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FEBAD-52F0-4790-B2E7-46BE50C78F4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s is what we don’t know; that’s what unlearning is abou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ontent we cur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xample of counting white basketball and 500 pound guerilla in the room that no one saw as everyone is count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Basketball players: icebe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guerilla: underneath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so, example of the penny increasing exponentially; value of compound knowledge, money, et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ikepedia using collaboration of 1,000,000 people taking 100,000,000 hrs to bui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D3F79-7458-4C97-8A3F-0672071BC5E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84BC2-CFA2-40BD-989A-F486FAD130E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Project-base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hort stories, autobiographies, class projects, creating web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SL wee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s research about funding esl &amp; linc in ontario; immigration patterns, declining enrolment (hence budget cu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Long distance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ail correspond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fer to correct email messages if anxi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er corr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t ro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cio-cultural and discourse pract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r th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fter struggling to replace the once adrenaline filled void in his life, Miguel, the matador, turned to teaching at his local language scho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372E8-5327-440C-B1B1-B1093EF2B5A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r this? Or other way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83523-A417-4797-9EFB-8363EA4103F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17930-2DDE-4A46-8FE5-C7DA253CD71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DAF27-7275-4DB1-BD4F-1E2F5C1326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3981-9EAC-4312-B07C-848F0C4EF73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You are the people </a:t>
            </a:r>
            <a:r>
              <a:rPr b="1" lang="en-CA" sz="1200" spc="-1" strike="noStrike">
                <a:solidFill>
                  <a:srgbClr val="ff0000"/>
                </a:solidFill>
                <a:latin typeface="Times New Roman"/>
              </a:rPr>
              <a:t>formerly known as the 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You –audience-know more than i do-massive amount of info w the audie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You should be up here in fa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does this remind us of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Classro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 system built for industrial age where we stamp all students with the right ans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ll the knowledge flows from lecte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If you don’t feed it back, you are wrong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One size fits a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veryone must ask the same question, be provided with same answ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e teacher becomes the speaker of the decider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Just like the news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e should question the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Enable students to question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837B-610F-4DF0-9FCB-1F461D39A73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asks shift from creating and controlling content and managing scarcity to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curating people and content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and creating an abundance of students and teach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A world where everyone learns and everyone teac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Think of education as process </a:t>
            </a:r>
            <a:r>
              <a:rPr b="1" lang="en-CA" sz="1200" spc="-1" strike="noStrike">
                <a:solidFill>
                  <a:srgbClr val="000000"/>
                </a:solidFill>
                <a:latin typeface="Times New Roman"/>
              </a:rPr>
              <a:t>not as a product w an expiry date </a:t>
            </a: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ith the end product being a certificate or diplo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should schools look li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What matters is your ability and your desire and though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200" spc="-1" strike="noStrike">
                <a:solidFill>
                  <a:srgbClr val="000000"/>
                </a:solidFill>
                <a:latin typeface="Times New Roman"/>
              </a:rPr>
              <a:t>Schools become the means to help ss create what they want to cre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98E59-07BC-4864-9FC4-A1570651C07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DEFD-CE03-4BB4-9605-63425C8AB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12DA6-71AF-4B2E-8846-D5024105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C240-E873-4B46-BBE3-4B5C25B7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1FF56-D014-449C-B629-6C58C31B1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61803-4174-4A7C-A706-E79801DAA8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99FF2-F6FC-4D96-BA80-DA229ABC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DD313-C968-40DF-AB98-6D5121207A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732A-42B5-4F35-BE1E-67326D1C0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BF98D-1B12-4CD3-A3CF-C8658608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AFA1-31E1-4673-88AF-DF3F640E1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1832F-9F26-430D-A5A4-EF3D4172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3651-938C-4210-B4A1-8457DD486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9B049-7A9C-4BCE-8102-82B29F8CC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8F07D-1618-4166-8CE4-9FADE893B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6E66-0145-40D1-BE96-6735A113E7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FE05A-D4F0-409D-BFBC-E74E7026D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E1A03-6172-410E-8EB9-305CD1856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B85E-05AE-45FF-9E9C-CF735DBD0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FCE4-DAB8-42E0-B0D8-70E47F20B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C947-0068-4E31-A027-815D32872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8834-326A-4E67-9D0A-40806F5CB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76F8-4182-4965-95FE-2699CA15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D440-CC42-486C-8509-94AB67DC5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9ABA-A357-477A-A521-07179242D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57059-D5A4-4AC3-81C2-4E353EE7B1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prstGeom prst="pie">
              <a:avLst/>
            </a:pr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4C288-F6A0-4B7F-A7AA-E2A773B173ED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The ever changing role of teachers: </a:t>
            </a:r>
            <a:r>
              <a:rPr b="0" lang="en-CA" sz="4800" spc="-1" strike="noStrike">
                <a:solidFill>
                  <a:srgbClr val="ffff00"/>
                </a:solidFill>
                <a:latin typeface="Arial"/>
              </a:rPr>
              <a:t>Is teaching still relevant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274320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Access Employment con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haron Rajab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sharon.rajabi@tcdsb.or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4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6000" spc="-1" strike="noStrike">
                <a:solidFill>
                  <a:srgbClr val="ffffff"/>
                </a:solidFill>
                <a:latin typeface="Arial"/>
              </a:rPr>
              <a:t>Educators should become more the curators than creators...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b2b2b2"/>
                </a:solidFill>
                <a:latin typeface="Arial"/>
              </a:rPr>
              <a:t>Rules of Engagement</a:t>
            </a:r>
            <a:br>
              <a:rPr sz="4400"/>
            </a:br>
            <a:r>
              <a:rPr b="0" lang="en-CA" sz="4400" spc="-1" strike="noStrike">
                <a:solidFill>
                  <a:srgbClr val="b2b2b2"/>
                </a:solidFill>
                <a:latin typeface="Arial"/>
              </a:rPr>
              <a:t>O’Rurke :2002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1285920" y="15714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echn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Prac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ul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ritic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600" spc="-1" strike="noStrike">
                <a:solidFill>
                  <a:srgbClr val="ffffff"/>
                </a:solidFill>
                <a:latin typeface="Arial"/>
              </a:rPr>
              <a:t>Higher-order goals demand what some analysts have called “meaningful learning” (Good &amp; Brophy, 1986) that is, learning that enables critical thinking, flexible problem solving, and transfer of skills and use of knowledge in new situations. (p. 2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E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F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O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AO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C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457200" y="2214720"/>
            <a:ext cx="8229600" cy="391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9600" spc="-1" strike="noStrike">
                <a:solidFill>
                  <a:srgbClr val="ffffff"/>
                </a:solidFill>
                <a:latin typeface="Arial"/>
              </a:rPr>
              <a:t>CUO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530600"/>
          </a:xfrm>
          <a:prstGeom prst="rect">
            <a:avLst/>
          </a:prstGeom>
          <a:ln w="0">
            <a:noFill/>
          </a:ln>
        </p:spPr>
      </p:pic>
      <p:pic>
        <p:nvPicPr>
          <p:cNvPr id="137" name="Rectangle 4" descr=""/>
          <p:cNvPicPr/>
          <p:nvPr/>
        </p:nvPicPr>
        <p:blipFill>
          <a:blip r:embed="rId2"/>
          <a:stretch/>
        </p:blipFill>
        <p:spPr>
          <a:xfrm>
            <a:off x="3670200" y="2755800"/>
            <a:ext cx="179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o see the world not as you see it but as others 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Rectangle 4" descr=""/>
          <p:cNvPicPr/>
          <p:nvPr/>
        </p:nvPicPr>
        <p:blipFill>
          <a:blip r:embed="rId1"/>
          <a:stretch/>
        </p:blipFill>
        <p:spPr>
          <a:xfrm>
            <a:off x="2743200" y="-1530360"/>
            <a:ext cx="6072120" cy="8364600"/>
          </a:xfrm>
          <a:prstGeom prst="rect">
            <a:avLst/>
          </a:prstGeom>
          <a:ln w="0">
            <a:noFill/>
          </a:ln>
        </p:spPr>
      </p:pic>
      <p:pic>
        <p:nvPicPr>
          <p:cNvPr id="144" name="Rectangle 5" descr=""/>
          <p:cNvPicPr/>
          <p:nvPr/>
        </p:nvPicPr>
        <p:blipFill>
          <a:blip r:embed="rId2"/>
          <a:stretch/>
        </p:blipFill>
        <p:spPr>
          <a:xfrm>
            <a:off x="0" y="907920"/>
            <a:ext cx="6072120" cy="836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ot so much what we know but what we don’t kno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s humans, we’re pattern seeking animals even when patterns don’t exis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1" descr="iceberg 1.JPG"/>
          <p:cNvPicPr/>
          <p:nvPr/>
        </p:nvPicPr>
        <p:blipFill>
          <a:blip r:embed="rId1"/>
          <a:stretch/>
        </p:blipFill>
        <p:spPr>
          <a:xfrm>
            <a:off x="4214880" y="1428840"/>
            <a:ext cx="3943440" cy="39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08" name="Content Placeholder 3" descr="9801620-illustrated-teacher-holding-a-stick-with-a-scroll-in-front.jpg"/>
          <p:cNvPicPr/>
          <p:nvPr/>
        </p:nvPicPr>
        <p:blipFill>
          <a:blip r:embed="rId1"/>
          <a:stretch/>
        </p:blipFill>
        <p:spPr>
          <a:xfrm>
            <a:off x="4786200" y="2214720"/>
            <a:ext cx="3011760" cy="28573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4" descr="C:\Documents and Settings\rajabis\Local Settings\Temporary Internet Files\Content.IE5\NRY2X67M\MM900046566[1].gif"/>
          <p:cNvPicPr/>
          <p:nvPr/>
        </p:nvPicPr>
        <p:blipFill>
          <a:blip r:embed="rId2"/>
          <a:stretch/>
        </p:blipFill>
        <p:spPr>
          <a:xfrm>
            <a:off x="1000080" y="2286000"/>
            <a:ext cx="3000600" cy="282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6" descr="11187270-iceberg-ship.jpg"/>
          <p:cNvPicPr/>
          <p:nvPr/>
        </p:nvPicPr>
        <p:blipFill>
          <a:blip r:embed="rId1"/>
          <a:stretch/>
        </p:blipFill>
        <p:spPr>
          <a:xfrm>
            <a:off x="4071960" y="1285920"/>
            <a:ext cx="400032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800" spc="-1" strike="noStrike">
                <a:solidFill>
                  <a:srgbClr val="b2b2b2"/>
                </a:solidFill>
                <a:latin typeface="Arial"/>
              </a:rPr>
              <a:t>How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77724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Project-based learn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jects include many individual tasks; the umbrella of the project allows opportunities to critique and transform practice in ways that individual tasks do no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99ff"/>
                </a:solidFill>
                <a:latin typeface="Arial"/>
              </a:rPr>
              <a:t>Long-distance exchange projec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Learners debate and discuss issues related to culture, identity, education, etc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teacher is one who makes himself progressively unnecessary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~Thomas Carruthers</a:t>
            </a:r>
            <a:br>
              <a:rPr sz="3200"/>
            </a:br>
            <a:br>
              <a:rPr sz="3200"/>
            </a:b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A good teacher is like a candle - it consumes itself to light the way for others. 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~Mustafa Kemal Atatür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CA" sz="1800" spc="-1" strike="noStrike">
                <a:solidFill>
                  <a:srgbClr val="ffffff"/>
                </a:solidFill>
                <a:latin typeface="Arial"/>
              </a:rPr>
              <a:t>translated from Turkish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The mediocre teacher tells.  The good teacher explains.  The superior teacher demonstrates.  The great teacher inspires. 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~William Arthur Ward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teacher high res 2.jpg"/>
          <p:cNvPicPr/>
          <p:nvPr/>
        </p:nvPicPr>
        <p:blipFill>
          <a:blip r:embed="rId1"/>
          <a:stretch/>
        </p:blipFill>
        <p:spPr>
          <a:xfrm>
            <a:off x="571680" y="500040"/>
            <a:ext cx="4929120" cy="3862440"/>
          </a:xfrm>
          <a:prstGeom prst="rect">
            <a:avLst/>
          </a:prstGeom>
          <a:ln cap="sq" w="444600">
            <a:solidFill>
              <a:srgbClr val="000000"/>
            </a:solidFill>
            <a:miter/>
          </a:ln>
          <a:effectLst>
            <a:outerShdw dist="190409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teacher w smart board.jpg"/>
          <p:cNvPicPr/>
          <p:nvPr/>
        </p:nvPicPr>
        <p:blipFill>
          <a:blip r:embed="rId1"/>
          <a:stretch/>
        </p:blipFill>
        <p:spPr>
          <a:xfrm>
            <a:off x="0" y="0"/>
            <a:ext cx="9326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-285840" y="0"/>
            <a:ext cx="980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36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b2b2b2"/>
                </a:solidFill>
                <a:latin typeface="Arial"/>
              </a:rPr>
              <a:t>Demands on teachers...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creased achievements for all stud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creased levels of accountability by fun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New or renewed curriculu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Budgetary pres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Increased levels of diversity in the classroo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ffffff"/>
                </a:solidFill>
                <a:latin typeface="Arial"/>
              </a:rPr>
              <a:t>Massive amount of inform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Diagram 3" descr=""/>
          <p:cNvPicPr/>
          <p:nvPr/>
        </p:nvPicPr>
        <p:blipFill>
          <a:blip r:embed="rId1"/>
          <a:stretch/>
        </p:blipFill>
        <p:spPr>
          <a:xfrm>
            <a:off x="7997760" y="5778360"/>
            <a:ext cx="652680" cy="61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2" name="Picture 3" descr=""/>
          <p:cNvPicPr/>
          <p:nvPr/>
        </p:nvPicPr>
        <p:blipFill>
          <a:blip r:embed="rId1"/>
          <a:stretch/>
        </p:blipFill>
        <p:spPr>
          <a:xfrm>
            <a:off x="947880" y="1600200"/>
            <a:ext cx="7248240" cy="45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CA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5400" spc="-1" strike="noStrike">
                <a:solidFill>
                  <a:srgbClr val="ffffff"/>
                </a:solidFill>
                <a:latin typeface="Arial"/>
              </a:rPr>
              <a:t>Are we preparing our learners for the google age?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04T23:34:28Z</dcterms:created>
  <dc:creator>Sharon Rajabi</dc:creator>
  <dc:description/>
  <dc:language>en-US</dc:language>
  <cp:lastModifiedBy>Consultant</cp:lastModifiedBy>
  <dcterms:modified xsi:type="dcterms:W3CDTF">2013-02-21T17:53:35Z</dcterms:modified>
  <cp:revision>263</cp:revision>
  <dc:subject/>
  <dc:title>Rethinking literacy in electronic age: Am I teaching what learners need?</dc:title>
</cp:coreProperties>
</file>